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221D-6767-4DC3-91FE-E9DE4132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3FA-3743-46DB-8B9A-90A92310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9CB-F6CC-436F-861C-2013909B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420-C887-4432-8C56-9BD6CC1E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E2F-C42C-4FDD-B5FB-CD1D778C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2C2-2E7A-4D23-B1EA-7C534D95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BF2-4557-456A-B38C-F123EF7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C4D-E48B-49A7-8AC0-694F5E4F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5D8F-8E79-49CC-A4A4-FB0605EE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609-2F4E-476F-9DA6-FC0E94C7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00D-B3EA-4865-B776-25BCB713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171-AA8D-442A-83FA-C84925B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B883-74C5-4984-8AC0-DA21AD555DE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eo.lao@etc.org.tw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85840" y="566640"/>
            <a:ext cx="6383160" cy="1220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為達成我國標準與國際同步，配合經濟部標準檢驗局綠能產品檢測技術及驗證計畫，進行相關標準修訂，並透過中文標準草案公開說明會，提供國內外電磁相容檢測標準更新說明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接點 10"/>
          <p:cNvSpPr/>
          <p:nvPr/>
        </p:nvSpPr>
        <p:spPr>
          <a:xfrm>
            <a:off x="27000" y="6897600"/>
            <a:ext cx="68580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89000" y="7478640"/>
          <a:ext cx="6480000" cy="1730520"/>
        </p:xfrm>
        <a:graphic>
          <a:graphicData uri="http://schemas.openxmlformats.org/drawingml/2006/table">
            <a:tbl>
              <a:tblPr/>
              <a:tblGrid>
                <a:gridCol w="1311120"/>
                <a:gridCol w="849240"/>
                <a:gridCol w="863640"/>
                <a:gridCol w="689040"/>
                <a:gridCol w="750960"/>
                <a:gridCol w="223920"/>
                <a:gridCol w="1792080"/>
              </a:tblGrid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名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統一編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地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公司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參加人員姓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職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分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行動電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標楷體"/>
                        </a:rPr>
                        <a:t>E-ma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" name="文字方塊 12"/>
          <p:cNvSpPr/>
          <p:nvPr/>
        </p:nvSpPr>
        <p:spPr>
          <a:xfrm>
            <a:off x="1639800" y="703584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CNS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-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報名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80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CNS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標準草案說明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04840" y="4521240"/>
          <a:ext cx="6464160" cy="1249200"/>
        </p:xfrm>
        <a:graphic>
          <a:graphicData uri="http://schemas.openxmlformats.org/drawingml/2006/table">
            <a:tbl>
              <a:tblPr/>
              <a:tblGrid>
                <a:gridCol w="1423800"/>
                <a:gridCol w="3159360"/>
                <a:gridCol w="188100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時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內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ffffff"/>
                          </a:solidFill>
                          <a:latin typeface="Arial"/>
                          <a:ea typeface="標楷體"/>
                        </a:rPr>
                        <a:t>講師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09:45-10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報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00-10: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 13306-1-1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CISPR 16-1-1):20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10:30-11: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CNS14676-3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草制說明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(IEC61000-4-3):2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ETC </a:t>
                      </a:r>
                      <a:r>
                        <a:rPr b="0" lang="zh-TW" sz="14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張宏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47" name="文字方塊 9"/>
          <p:cNvSpPr/>
          <p:nvPr/>
        </p:nvSpPr>
        <p:spPr>
          <a:xfrm>
            <a:off x="285840" y="1900080"/>
            <a:ext cx="63370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主辦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經濟部標準檢驗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受託單位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財團法人台灣商品檢測驗證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時間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111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7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22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(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星期五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)10:00~11:00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地點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網路會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方式：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填妥報名資料回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E-mail: </a:t>
            </a:r>
            <a:r>
              <a:rPr b="0" lang="en-US" sz="1600" spc="-1" strike="noStrike" u="sng">
                <a:solidFill>
                  <a:srgbClr val="4f81bd"/>
                </a:solidFill>
                <a:uFillTx/>
                <a:latin typeface="Arial"/>
                <a:ea typeface="標楷體"/>
              </a:rPr>
              <a:t>hank1108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標楷體"/>
                <a:hlinkClick r:id="rId1"/>
              </a:rPr>
              <a:t>@etc.org.tw</a:t>
            </a:r>
            <a:r>
              <a:rPr b="0" lang="zh-TW" sz="1600" spc="-1" strike="noStrike">
                <a:solidFill>
                  <a:srgbClr val="4f81bd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，完成報名以電子郵件方式提供線上會議連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報名費用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免費參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聯絡窗口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02-26023052#28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張先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  <a:ea typeface="標楷體"/>
              </a:rPr>
              <a:t>會議議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標楷體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字方塊 1"/>
          <p:cNvSpPr/>
          <p:nvPr/>
        </p:nvSpPr>
        <p:spPr>
          <a:xfrm>
            <a:off x="117360" y="9283680"/>
            <a:ext cx="662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單位報名名額為兩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100" spc="-1" strike="noStrike">
                <a:solidFill>
                  <a:srgbClr val="000000"/>
                </a:solidFill>
                <a:latin typeface="標楷體"/>
                <a:ea typeface="標楷體"/>
              </a:rPr>
              <a:t>參與活動報名者所提供之個人資料，依相關個資法令規定來使用、保管、並維護其隱私權，不會交予及無正當理由透露給第三者，並於事後以專案銷毀刪除個人資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05:16:20Z</dcterms:created>
  <dc:creator>vivi</dc:creator>
  <dc:description/>
  <dc:language>en-US</dc:language>
  <cp:lastModifiedBy>green.tsao</cp:lastModifiedBy>
  <cp:lastPrinted>2018-03-19T06:04:45Z</cp:lastPrinted>
  <dcterms:modified xsi:type="dcterms:W3CDTF">2022-06-23T00:41:34Z</dcterms:modified>
  <cp:revision>180</cp:revision>
  <dc:subject/>
  <dc:title>投影片 1</dc:title>
</cp:coreProperties>
</file>