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EAC5-5BCF-41E3-BB81-FB4E08A47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4AE3-B0CF-4A61-96E1-F163295E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E6DA-FCD6-4E07-99C2-BD263AF9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B1E8-747A-4ACA-BBE3-AFA344A5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424C-FE5E-490B-ADDB-3D4910BB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93F8-85D3-4F69-8F8D-81CFE74D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3DE2-89C1-4C09-85BC-FB324465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FD04-DAC7-4FFA-9607-BAA16287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9CA-F086-4771-AD96-E1001086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6EE9-0607-4ED7-BBB1-85E3B03A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3EB8-672D-4FBE-BDAA-91679819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B0B-787D-474F-9634-B03E81AC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EA89-B452-456C-82FA-5C2F3B2ADB0B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eo.lao@etc.org.tw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85840" y="566640"/>
            <a:ext cx="6383160" cy="1220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為達成我國標準與國際同步，配合經濟部標準檢驗局綠能產品檢測技術及驗證計畫，進行相關標準修訂，並透過中文標準草案公開說明會，提供國內外電磁相容檢測標準更新說明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線接點 10"/>
          <p:cNvSpPr/>
          <p:nvPr/>
        </p:nvSpPr>
        <p:spPr>
          <a:xfrm>
            <a:off x="27000" y="6897600"/>
            <a:ext cx="68580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89000" y="7478640"/>
          <a:ext cx="6480000" cy="1730520"/>
        </p:xfrm>
        <a:graphic>
          <a:graphicData uri="http://schemas.openxmlformats.org/drawingml/2006/table">
            <a:tbl>
              <a:tblPr/>
              <a:tblGrid>
                <a:gridCol w="1311120"/>
                <a:gridCol w="849240"/>
                <a:gridCol w="863640"/>
                <a:gridCol w="689040"/>
                <a:gridCol w="750960"/>
                <a:gridCol w="223920"/>
                <a:gridCol w="1792080"/>
              </a:tblGrid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名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統一編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地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電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參加人員姓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職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分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行動電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E-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" name="文字方塊 12"/>
          <p:cNvSpPr/>
          <p:nvPr/>
        </p:nvSpPr>
        <p:spPr>
          <a:xfrm>
            <a:off x="1639800" y="7035840"/>
            <a:ext cx="36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CNS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標準草案說明會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-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報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80"/>
          <p:cNvSpPr/>
          <p:nvPr/>
        </p:nvSpPr>
        <p:spPr>
          <a:xfrm>
            <a:off x="0" y="0"/>
            <a:ext cx="6858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CNS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標準草案說明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04840" y="4521240"/>
          <a:ext cx="6464160" cy="1249200"/>
        </p:xfrm>
        <a:graphic>
          <a:graphicData uri="http://schemas.openxmlformats.org/drawingml/2006/table">
            <a:tbl>
              <a:tblPr/>
              <a:tblGrid>
                <a:gridCol w="1423800"/>
                <a:gridCol w="3159360"/>
                <a:gridCol w="1881000"/>
              </a:tblGrid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時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內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講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9:45-10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報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0:00-10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NS 13306-1-1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草制說明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(CISPR 16-1-1):20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ETC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張宏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0:30-11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NS14676-3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草制說明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(IEC61000-4-3):2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ETC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張宏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47" name="文字方塊 9"/>
          <p:cNvSpPr/>
          <p:nvPr/>
        </p:nvSpPr>
        <p:spPr>
          <a:xfrm>
            <a:off x="285840" y="1900080"/>
            <a:ext cx="6337080" cy="24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主辦單位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經濟部標準檢驗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受託單位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財團法人台灣商品檢測驗證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時間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11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7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2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星期五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)10:00~11:00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地點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網路會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報名方式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填妥報名資料回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E-mail: </a:t>
            </a:r>
            <a:r>
              <a:rPr b="0" lang="en-US" sz="1600" spc="-1" strike="noStrike" u="sng">
                <a:solidFill>
                  <a:srgbClr val="4f81bd"/>
                </a:solidFill>
                <a:uFillTx/>
                <a:latin typeface="Arial"/>
                <a:ea typeface="標楷體"/>
              </a:rPr>
              <a:t>hank1108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標楷體"/>
                <a:hlinkClick r:id="rId1"/>
              </a:rPr>
              <a:t>@etc.org.tw</a:t>
            </a:r>
            <a:r>
              <a:rPr b="0" lang="zh-TW" sz="1600" spc="-1" strike="noStrike">
                <a:solidFill>
                  <a:srgbClr val="4f81bd"/>
                </a:solidFill>
                <a:latin typeface="Arial"/>
                <a:ea typeface="標楷體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，完成報名以電子郵件方式提供線上會議連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報名費用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免費參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會議聯絡窗口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02-26023052#28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張先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會議議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字方塊 1"/>
          <p:cNvSpPr/>
          <p:nvPr/>
        </p:nvSpPr>
        <p:spPr>
          <a:xfrm>
            <a:off x="117360" y="9283680"/>
            <a:ext cx="662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標楷體"/>
                <a:ea typeface="標楷體"/>
              </a:rPr>
              <a:t>單位報名名額為兩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標楷體"/>
                <a:ea typeface="標楷體"/>
              </a:rPr>
              <a:t>參與活動報名者所提供之個人資料，依相關個資法令規定來使用、保管、並維護其隱私權，不會交予及無正當理由透露給第三者，並於事後以專案銷毀刪除個人資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05:16:20Z</dcterms:created>
  <dc:creator>vivi</dc:creator>
  <dc:description/>
  <dc:language>en-US</dc:language>
  <cp:lastModifiedBy>green.tsao</cp:lastModifiedBy>
  <cp:lastPrinted>2018-03-19T06:04:45Z</cp:lastPrinted>
  <dcterms:modified xsi:type="dcterms:W3CDTF">2022-06-23T00:41:34Z</dcterms:modified>
  <cp:revision>180</cp:revision>
  <dc:subject/>
  <dc:title>投影片 1</dc:title>
</cp:coreProperties>
</file>